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B3D9-D4F3-4F3A-A5EC-DDFBADC8CD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48F9-84C2-43AC-89A7-0631C037D8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629DE-5209-40B0-B0F9-9196C80CF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B6FF-EA94-4D3E-8CC5-CECA76FE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2C9A5-BF60-40A0-A6D0-0DF36C06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A9189-7966-42AF-98F6-81C751AE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DC4D-22B0-4557-9F94-21D8E0F7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2F4E-2840-4AAF-B399-B04C48F0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3B4F-14B6-4A0C-AB33-C44709D7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E31D-03FE-46BA-A1C8-F0A20CCB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859E-351E-42C7-B86F-914DB095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93D9-29C4-4B26-840C-597128ED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9EA3-689D-4A94-9270-CA411979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1AB6C-366E-4D1B-BDBC-BC2E3456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2A28-62C5-45F7-AB58-F6E5CB20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AE74-7E0F-453C-96D4-5576BD4F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6AFD-636F-4FC0-B5FC-ECC1146C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6B50-2A4D-4919-A490-51C4AC9B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41D7-B21D-495D-9467-1ECE5539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0E4FF-99F4-4C19-B82D-461EDA71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7C54F-2A1C-4787-88D2-E20D4DC3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254F-9852-4F81-B058-DB025889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BB26-5A52-4C36-81D0-0DC48487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298C9-7DFE-4530-A2EA-9E7B9166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C48D6-75FC-4B36-A694-F3955627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CE47-BE04-4594-A67E-50EF11A5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2F57-5C82-48C3-84E7-385CDB33D4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9566-C714-47EB-AFB2-B350D808F3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ы теори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лан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кусство как феномен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нятие художественной культу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новные методологические подходы в искусствознани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рмы и виды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71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3.Использование художественных средств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ямые, непосредстве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мимика, поэзия, отчасти - музык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свенные, опосредованн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архитектура, скульптура, живопис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10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Oval 2"/>
          <p:cNvSpPr/>
          <p:nvPr/>
        </p:nvSpPr>
        <p:spPr>
          <a:xfrm>
            <a:off x="2286000" y="3124080"/>
            <a:ext cx="2286000" cy="13716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6629400" y="0"/>
            <a:ext cx="0" cy="685800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80880" y="914400"/>
            <a:ext cx="1835280" cy="1447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дна из форм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бщественн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сознания;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тельности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2514600" y="914400"/>
            <a:ext cx="1835280" cy="1447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цесс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уха и рук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4572000" y="914400"/>
            <a:ext cx="1835280" cy="1447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ая форм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ознан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мысления,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ценки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интерпретации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04920" y="5181480"/>
            <a:ext cx="1834920" cy="1446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Качество способа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действия,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тличающее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о одн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ника о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тва другого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2514600" y="5181480"/>
            <a:ext cx="1835280" cy="1446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езультат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творческой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работы –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художественное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произведение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4572000" y="5181480"/>
            <a:ext cx="1835280" cy="14464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собенность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человеческого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восприятия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ff"/>
                </a:solidFill>
                <a:latin typeface="Times New Roman"/>
              </a:rPr>
              <a:t>окружающего мира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68000" y="3357720"/>
            <a:ext cx="2281320" cy="90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00"/>
                </a:solidFill>
                <a:latin typeface="Garamond"/>
              </a:rPr>
              <a:t>Искусство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Line 11"/>
          <p:cNvSpPr/>
          <p:nvPr/>
        </p:nvSpPr>
        <p:spPr>
          <a:xfrm>
            <a:off x="1219320" y="2362320"/>
            <a:ext cx="137160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3429000" y="2362320"/>
            <a:ext cx="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13"/>
          <p:cNvSpPr/>
          <p:nvPr/>
        </p:nvSpPr>
        <p:spPr>
          <a:xfrm flipH="1">
            <a:off x="4114800" y="236232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4"/>
          <p:cNvSpPr/>
          <p:nvPr/>
        </p:nvSpPr>
        <p:spPr>
          <a:xfrm flipV="1">
            <a:off x="1219320" y="4267080"/>
            <a:ext cx="137160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5"/>
          <p:cNvSpPr/>
          <p:nvPr/>
        </p:nvSpPr>
        <p:spPr>
          <a:xfrm flipV="1">
            <a:off x="3429000" y="44953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6"/>
          <p:cNvSpPr/>
          <p:nvPr/>
        </p:nvSpPr>
        <p:spPr>
          <a:xfrm flipH="1" flipV="1">
            <a:off x="4114800" y="4343400"/>
            <a:ext cx="137160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6629400" y="0"/>
            <a:ext cx="25146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1) искус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тражени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действительност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в художественных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образах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2) ремесло, умение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навык, мастерство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80880" indent="-35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ff"/>
                </a:solidFill>
                <a:latin typeface="Times New Roman"/>
              </a:rPr>
              <a:t>творчеств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WordArt 18"/>
          <p:cNvSpPr txBox="1"/>
          <p:nvPr/>
        </p:nvSpPr>
        <p:spPr>
          <a:xfrm>
            <a:off x="7162920" y="76212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44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latin typeface="Arial"/>
              </a:rPr>
              <a:t>Art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latin typeface="Arial"/>
              <a:ea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Эстетика – о сущности искусств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Материалистическая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Mimesis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из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отражение, имитация действительности. (Аристотель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52640" y="1599840"/>
            <a:ext cx="403380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Идеалистическая теория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Phantasia(</a:t>
            </a: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греч.-воображение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aramond"/>
              </a:rPr>
              <a:t>- выражение внутренних чувств вечных истин, сути времени. (Платон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3962160"/>
            <a:ext cx="77691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Функции искусств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Эстет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Знаково - коммуникатив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носелогическ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Ценностно-ориентацион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еобразовательная или созид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спитательн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грова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едонистическа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520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564000" y="1628640"/>
            <a:ext cx="1676160" cy="685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Times New Roman"/>
              </a:rPr>
              <a:t>Искус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8"/>
          <p:cNvSpPr/>
          <p:nvPr/>
        </p:nvSpPr>
        <p:spPr>
          <a:xfrm flipH="1">
            <a:off x="2555640" y="198900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219640" y="1989000"/>
            <a:ext cx="8384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0"/>
          <p:cNvSpPr/>
          <p:nvPr/>
        </p:nvSpPr>
        <p:spPr>
          <a:xfrm flipH="1">
            <a:off x="0" y="3962520"/>
            <a:ext cx="9144000" cy="0"/>
          </a:xfrm>
          <a:prstGeom prst="line">
            <a:avLst/>
          </a:prstGeom>
          <a:ln w="38160">
            <a:solidFill>
              <a:srgbClr val="000514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6600"/>
                </a:solidFill>
                <a:latin typeface="Garamond"/>
              </a:rPr>
              <a:t>Зонально-слоевое строение художественной культуры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752480"/>
          <a:ext cx="8367840" cy="4432320"/>
        </p:xfrm>
        <a:graphic>
          <a:graphicData uri="http://schemas.openxmlformats.org/drawingml/2006/table">
            <a:tbl>
              <a:tblPr/>
              <a:tblGrid>
                <a:gridCol w="836784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УХОВ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приклад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аторское искусство                                        художественная публицис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словес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музык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актерского словесно-пластического и музыкально-пластическ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пантомимического и танцева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она чисто художественного приметно-изобразительного творчеств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ходная зона архитектонических бифункциональных искусст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ремесленной базе                                                  На индустриальной баз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ТЕРИАЛЬНАЯ КУЛЬ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47280" y="476280"/>
            <a:ext cx="597708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Искусствознание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Line 3"/>
          <p:cNvSpPr/>
          <p:nvPr/>
        </p:nvSpPr>
        <p:spPr>
          <a:xfrm flipH="1">
            <a:off x="133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4284720" y="1484280"/>
            <a:ext cx="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6012000" y="1484280"/>
            <a:ext cx="1511280" cy="151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313200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5796000" y="3213000"/>
            <a:ext cx="334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удожествен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итик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72720" y="-3220920"/>
            <a:ext cx="71280" cy="828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179280" y="321300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Теория искусства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2923920"/>
            <a:ext cx="85186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бщает накопленные данные с историософской точки зрения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50920" y="189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История искус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324000" y="90792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тизирует и описывает наличный и вновь открываемый материал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000514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знает закономерности развития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250920" y="422100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5e5ff"/>
                </a:solidFill>
                <a:latin typeface="Arial"/>
              </a:rPr>
              <a:t>Художественная критика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79280" y="4941720"/>
            <a:ext cx="88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ражает реакцию на произведение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ализирует тенденции и  перспективы развития современного искусств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Основные методологические школы искусствознани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тория стилей (Вельфлин, Хаузер, Винкельман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наточество ( Бернсо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зучение сюжетов ( Маль, Панофски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ультурно-историческая школа ( Тэн 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1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1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1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10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1.Особенности художественного языка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онацио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-5850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Немые» (архитектура, скульптура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антомима, танец, живопись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инципы классификации видов искусства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2. Способ существования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ые (архитектура, изобразительное искусств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ременные (музыка, поэзия, проза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остранственно-временные (балет, театр, кино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5T06:46:15Z</dcterms:created>
  <dc:creator>xdemon</dc:creator>
  <dc:description/>
  <dc:language>en-US</dc:language>
  <cp:lastModifiedBy>Name</cp:lastModifiedBy>
  <dcterms:modified xsi:type="dcterms:W3CDTF">2011-02-03T12:41:49Z</dcterms:modified>
  <cp:revision>3</cp:revision>
  <dc:subject/>
  <dc:title>Основы теории искусст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2050000000000010243000207f6000400038000</vt:lpwstr>
  </property>
</Properties>
</file>